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2.jpeg" ContentType="image/jpeg"/>
  <Override PartName="/ppt/media/image16.jpeg" ContentType="image/jpeg"/>
  <Override PartName="/ppt/media/image15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86D62-FCB6-4E5D-8058-378C8BA4D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D9F4C-8756-4E0D-94C1-0DBF382A3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30E40-6AF7-4642-BB1C-655880E31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A1DBD-0AFB-4EEB-A8D1-FFF6F2B76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94CA1-204E-4D65-9959-881273702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891BC-5112-423B-BF52-2A66B798D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4A2F5-6356-4935-BB5B-A47526239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C96C4-EA23-4EFC-A760-90891A4A0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BDAB9-D2DA-4306-81EB-F0BEA02C1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A85F1-40AA-4EE1-A404-8EC105B18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E49C7-3D30-4FBF-92E8-231AAA631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D93FA-C2E5-43C3-BF97-E58A22AC4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26A40-A5CD-4B45-8009-9BD46F4D30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0760" cy="68454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828800" y="4952520"/>
            <a:ext cx="54100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Science Tools</a:t>
            </a:r>
            <a:br>
              <a:rPr sz="4000"/>
            </a:b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By: Sidney Lose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 txBox="1"/>
          <p:nvPr/>
        </p:nvSpPr>
        <p:spPr>
          <a:xfrm>
            <a:off x="2057400" y="3962520"/>
            <a:ext cx="6019920" cy="17748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stop watch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ransition>
    <p:checke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50000">
              <a:srgbClr val="333399"/>
            </a:gs>
            <a:gs pos="100000">
              <a:srgbClr val="00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862280" y="0"/>
            <a:ext cx="728172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 txBox="1"/>
          <p:nvPr/>
        </p:nvSpPr>
        <p:spPr>
          <a:xfrm rot="5400000">
            <a:off x="-1619640" y="2762280"/>
            <a:ext cx="5410440" cy="647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compute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ransition>
    <p:checke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ff"/>
            </a:gs>
            <a:gs pos="50000">
              <a:srgbClr val="0000ff"/>
            </a:gs>
            <a:gs pos="100000">
              <a:srgbClr val="ff00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286000" y="0"/>
            <a:ext cx="6858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 txBox="1"/>
          <p:nvPr/>
        </p:nvSpPr>
        <p:spPr>
          <a:xfrm rot="5400000">
            <a:off x="-1676160" y="2819160"/>
            <a:ext cx="5181480" cy="10670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c4b596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Times New Roman"/>
              </a:rPr>
              <a:t>microscope</a:t>
            </a:r>
            <a:endParaRPr b="0" lang="en-US" sz="1800" spc="1" strike="noStrike">
              <a:ln w="12600">
                <a:solidFill>
                  <a:srgbClr val="c4b596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checker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 txBox="1"/>
          <p:nvPr/>
        </p:nvSpPr>
        <p:spPr>
          <a:xfrm>
            <a:off x="3162240" y="2286000"/>
            <a:ext cx="4152960" cy="171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slide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( just kidding )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checker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000000"/>
            </a:gs>
            <a:gs pos="100000">
              <a:srgbClr val="00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286000" y="0"/>
            <a:ext cx="6858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 txBox="1"/>
          <p:nvPr/>
        </p:nvSpPr>
        <p:spPr>
          <a:xfrm rot="5400000">
            <a:off x="-1733760" y="3181320"/>
            <a:ext cx="5486400" cy="647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Arial Black"/>
              </a:rPr>
              <a:t>slide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checke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133720" y="2285640"/>
            <a:ext cx="4952880" cy="129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aduated cylin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7429680" y="1847880"/>
            <a:ext cx="1714320" cy="50101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0" y="1847880"/>
            <a:ext cx="1714680" cy="501012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33096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 txBox="1"/>
          <p:nvPr/>
        </p:nvSpPr>
        <p:spPr>
          <a:xfrm rot="5400000">
            <a:off x="4495320" y="2971800"/>
            <a:ext cx="6477120" cy="8380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c4b596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Times New Roman"/>
              </a:rPr>
              <a:t>Spring scale</a:t>
            </a:r>
            <a:endParaRPr b="0" lang="en-US" sz="1800" spc="1" strike="noStrike">
              <a:ln w="12600">
                <a:solidFill>
                  <a:srgbClr val="c4b596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checke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ff"/>
            </a:gs>
            <a:gs pos="50000">
              <a:srgbClr val="00ffff"/>
            </a:gs>
            <a:gs pos="100000">
              <a:srgbClr val="ff00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2849400"/>
            <a:ext cx="9144000" cy="40086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1371600" y="762120"/>
            <a:ext cx="6134040" cy="171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triple beam blance scale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checke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50000">
              <a:srgbClr val="ffff00"/>
            </a:gs>
            <a:gs pos="100000">
              <a:srgbClr val="00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358128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nd le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038480" y="0"/>
            <a:ext cx="5105520" cy="685800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803840" y="0"/>
            <a:ext cx="434016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 txBox="1"/>
          <p:nvPr/>
        </p:nvSpPr>
        <p:spPr>
          <a:xfrm>
            <a:off x="533520" y="2133720"/>
            <a:ext cx="403848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ruler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checke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000000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2328840"/>
            <a:ext cx="9144000" cy="45291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 txBox="1"/>
          <p:nvPr/>
        </p:nvSpPr>
        <p:spPr>
          <a:xfrm>
            <a:off x="2514600" y="762120"/>
            <a:ext cx="3452760" cy="1164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beaker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checke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50000">
              <a:srgbClr val="ff00ff"/>
            </a:gs>
            <a:gs pos="100000">
              <a:srgbClr val="fefe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209680" y="0"/>
            <a:ext cx="693432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 txBox="1"/>
          <p:nvPr/>
        </p:nvSpPr>
        <p:spPr>
          <a:xfrm rot="5400000">
            <a:off x="-2000520" y="2990880"/>
            <a:ext cx="6172200" cy="647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scal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ransition>
    <p:checke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333399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749680" y="0"/>
            <a:ext cx="639432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 txBox="1"/>
          <p:nvPr/>
        </p:nvSpPr>
        <p:spPr>
          <a:xfrm rot="5400000">
            <a:off x="-1333440" y="2171880"/>
            <a:ext cx="4572000" cy="1295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 Black"/>
              </a:rPr>
              <a:t>clock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checke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19T18:58:46Z</dcterms:created>
  <dc:creator>Gina.Losey</dc:creator>
  <dc:description/>
  <dc:language>en-US</dc:language>
  <cp:lastModifiedBy>Gina.Losey</cp:lastModifiedBy>
  <dcterms:modified xsi:type="dcterms:W3CDTF">2010-08-20T14:36:22Z</dcterms:modified>
  <cp:revision>7</cp:revision>
  <dc:subject/>
  <dc:title>Science Tools</dc:title>
</cp:coreProperties>
</file>